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ZZZZ.wav" ContentType="audio/x-wav"/>
  <Override PartName="/ppt/media/image9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C578-DB1E-4FA0-84C8-BFA94D64541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in the Wint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imals in the Wint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birds will fly to warmer places for the winter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birds will fly to warmer places for the winter month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will hide and sleep during the winter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animals will hide and sleep during the winter month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will adapt to their surroundings by growing a thicker coat or use camouflage by changing their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animals will adapt to their surroundings by growing a thicker coat or use camouflage by changing their col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ing 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nimals have a way to survive the wint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rviving Wi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animals have a way to survive the wint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E74-E769-40CB-8760-77FE4172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09AC-1C9C-41FF-9B28-D4EB3597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640-A9B4-4E02-A08E-D8810399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566-7429-4EE0-84FF-3E37B8B5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0D1D-7F5E-4C15-82B8-491B2238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D752-D608-4031-9886-518E8D4B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3F4E-3A3E-440F-9173-DD83E4D5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3B94-E7BA-4AAC-BAF2-F78D38F5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5720-A8C9-437F-9837-04C5064D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075D-23F7-418E-BCF8-3E4B9D42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0F20-5F57-4028-BE31-E7E2E979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A650-E326-4395-AE62-9FCB33BE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9CBF-8111-453C-917C-86948B66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9EE3-31A2-4F96-9560-DA91CDA5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3C9B-E69A-4EC4-B211-F48AEE80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47BE-0A23-4A19-ADAA-7D74C643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C41E-34FE-4E3A-9079-9FD6AF2B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43D317-FAE2-45B9-A2A5-0502BFC5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CC3B6D-D082-4D30-B8C2-22E0CFA8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838C1-9E49-4CF3-845D-00B16D8B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4EACE-21E7-43EA-BCB5-62C7606B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93FF3-0E33-4FC1-AD27-42AD5732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0F05-5E22-4CF4-8156-7C344C80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B07B8-F107-40E9-8617-D00C1B28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BD939-DDFB-4EBA-BF4A-FD1AC4BF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81EF1-EF02-4D45-8638-DCB7B864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8A230-F564-49B1-9282-BFC3FAE0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9C942-EDAE-44E3-9B8C-052F5B7A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B08FF-E62B-4158-A2D0-7AC4B47D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2FAC5-C0D7-41D0-9E61-726352CA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FC149C-D0DA-403E-A1CF-BFCC06E6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E8B3B4-F470-499C-B3FB-47622534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0C5B9A-7F1B-48CC-8267-B73C2718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9F6-DEA1-4594-B961-07ED1B16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76E73B-1CAE-413E-A1A1-703771D0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79C73B-C1B4-4903-9AB0-6BDD7E5E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9D6A02-6767-4CFB-9EFD-11978C2B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43FBC4-7511-4902-B6E3-5656A245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43CCA0-431C-473F-8E18-E684FBC9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BD2C99-8915-43B6-B501-F26D1B3A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93F0FE-7028-4470-B7EB-83A18E4B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554569-4489-4688-96EE-5B104869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87D2C5-2F67-4168-BA0D-02F13AD5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D03BA-3B0A-4AAE-91C8-81873D32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775-4CFB-4D5E-978A-ADBA032D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71714-07A6-4C7D-B3DB-7B575902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85664-3408-48A8-BFE1-9303D6FC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8596A4-2A37-4875-AF7E-781B0BD5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4AEDF5-E0C5-40A9-BC8C-ADD4E9CD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CB969-604B-4C50-BDBB-3F7982F5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64017F-91EB-42E2-A8A0-92DED7E8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CE40B-E987-4E47-9E95-B8C8787E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28067D-A434-40A6-B192-ED7F23A6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B9F352-C475-4A16-869D-CEE34815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28A816-9211-46EB-A171-B5555996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039D-0A8A-46AD-9993-8C669D7E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2C288D-BD9F-4A78-BA88-455E60FA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58433-4E70-4D85-A62C-C341771D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FFAA3-3C59-4349-99B4-48154D99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3CBD9-9910-40F6-BAF7-D10A67CF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D68E2-D068-44EA-A8E4-3B7E9DB4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E160C-AD47-4F52-85BE-983120AB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B39D4-7AED-4480-9C4B-FCAD4D3E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F1998-0572-4496-9ED1-3CF5E322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B2F85-6A6E-40EA-84CC-A8CD70D4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EECD1-797C-4C34-974C-928BB5A8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B325-6A54-4B39-BDF9-745A164B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68995-C0D1-4E0D-8F61-D4F33C9C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C2800-61D2-4951-BB53-AD43F06B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D5050-B918-43CE-BE7D-232CE48E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C82DF-6020-4740-9625-97885130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0084EE-475A-4033-9372-54E2F093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9C1409-FBB3-42AD-8040-EC0048B0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BE0DAD-FAD4-4983-B64E-0FBF1DB3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81F917-8A83-4CCE-B175-FFB689B4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6FCB2D-B270-46F1-9A8C-6DA161FC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D0A05F-AE66-4970-95E2-A987E9F3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9DE-322F-4DA5-A154-1C2E3135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B3A4C2-4845-4A93-8FEA-141479DD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2E44E9-3476-4011-91F2-8ABCC782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FA994-D9D2-4E94-8DC8-F5A9F8CF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CAF95-EA6C-4892-8043-978FF136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05C68-E8D5-4953-84E7-4232D080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0090D-9023-4115-9114-63CC1924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F2355-68BC-491F-90BA-6CB6E5F7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6B436-27E2-403F-96EA-22540275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5DE9E-AE54-473D-93E6-C57FB855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E7D1A-8A60-403B-8FE3-48EC8E25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FA59-AB88-4A43-A985-2A5123A1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5EAA2-0B0B-41D1-9FDE-8F69390E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DA8AB-7475-46DE-8AB8-1691784D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2784C-9215-4BBC-A8D5-66541F1F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619E0-BE39-4C0F-A5CF-249A2677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3E6D8-6C84-446E-93F3-3A358368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D5B42-E026-4E74-8F72-C1ABB0E1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F892D-9722-46FA-A7B7-B9C76F7D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6959-0FC8-4761-8B95-4786D3CC4A30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2AF3-85D2-4997-BC09-AB2B4126CC7C}" type="slidenum">
              <a:rPr b="1" lang="en-US" sz="1400" spc="-1" strike="noStrike">
                <a:solidFill>
                  <a:srgbClr val="ebddc3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2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Прямоугольник 1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Прямоугольник 1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179E-A3A1-46BC-B18A-968EE9ADDDA3}" type="slidenum">
              <a:rPr b="1" lang="en-US" sz="2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1CE4-5F71-44B1-822D-ED00B0E509A8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D07A-9B93-4ACF-8EC9-6BCE51BDBF67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BD47-3C43-48D4-8D2F-08BAC6A1DEFF}" type="slidenum">
              <a:rPr b="1" lang="en-US" sz="1400" spc="-1" strike="noStrike">
                <a:solidFill>
                  <a:srgbClr val="775f55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Прямоугольник 14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Прямоугольник 16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A8B5-40D3-4226-9EEF-833C23E3C1DB}" type="slidenum">
              <a:rPr b="1" lang="en-US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2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Прямоугольник 1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14EF-0BCA-4CA0-BFD5-DECDA34CB811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ZZZZ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Animals in the Winter</a:t>
            </a:r>
            <a:r>
              <a:rPr b="1" lang="en-US" sz="6000" spc="-1" strike="noStrike">
                <a:solidFill>
                  <a:srgbClr val="775f55"/>
                </a:solidFill>
                <a:latin typeface="Comic Sans MS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Picture 4" descr="bear-hibernate"/>
          <p:cNvPicPr/>
          <p:nvPr/>
        </p:nvPicPr>
        <p:blipFill>
          <a:blip r:embed="rId1"/>
          <a:stretch/>
        </p:blipFill>
        <p:spPr>
          <a:xfrm>
            <a:off x="2438280" y="2209680"/>
            <a:ext cx="4133880" cy="3934080"/>
          </a:xfrm>
          <a:prstGeom prst="rect">
            <a:avLst/>
          </a:prstGeom>
          <a:ln w="0">
            <a:noFill/>
          </a:ln>
        </p:spPr>
      </p:pic>
      <p:sp>
        <p:nvSpPr>
          <p:cNvPr id="368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  <p:sndAc>
      <p:stSnd>
        <p:snd r:embed="rId2" name="ZZZZ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57040"/>
            <a:ext cx="903456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Comic Sans MS"/>
              </a:rPr>
              <a:t>What are the three ways an animal will survive during the win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9" name="Picture 4" descr="think-boy1"/>
          <p:cNvPicPr/>
          <p:nvPr/>
        </p:nvPicPr>
        <p:blipFill>
          <a:blip r:embed="rId1"/>
          <a:stretch/>
        </p:blipFill>
        <p:spPr>
          <a:xfrm>
            <a:off x="3733920" y="2895480"/>
            <a:ext cx="2651040" cy="2762280"/>
          </a:xfrm>
          <a:prstGeom prst="rect">
            <a:avLst/>
          </a:prstGeom>
          <a:ln w="0">
            <a:noFill/>
          </a:ln>
        </p:spPr>
      </p:pic>
      <p:sp>
        <p:nvSpPr>
          <p:cNvPr id="410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71200" y="3045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Comic Sans MS"/>
              </a:rPr>
              <a:t>What are the three ways an animal will survive during the win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gr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bern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4" descr="think-boy1"/>
          <p:cNvPicPr/>
          <p:nvPr/>
        </p:nvPicPr>
        <p:blipFill>
          <a:blip r:embed="rId1"/>
          <a:stretch/>
        </p:blipFill>
        <p:spPr>
          <a:xfrm>
            <a:off x="5410080" y="2362320"/>
            <a:ext cx="2651400" cy="2762280"/>
          </a:xfrm>
          <a:prstGeom prst="rect">
            <a:avLst/>
          </a:prstGeom>
          <a:ln w="0">
            <a:noFill/>
          </a:ln>
        </p:spPr>
      </p:pic>
      <p:sp>
        <p:nvSpPr>
          <p:cNvPr id="414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0320" y="-68760"/>
            <a:ext cx="903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4" descr="thinking"/>
          <p:cNvPicPr/>
          <p:nvPr/>
        </p:nvPicPr>
        <p:blipFill>
          <a:blip r:embed="rId1"/>
          <a:stretch/>
        </p:blipFill>
        <p:spPr>
          <a:xfrm>
            <a:off x="2971800" y="2057400"/>
            <a:ext cx="2260440" cy="3902040"/>
          </a:xfrm>
          <a:prstGeom prst="rect">
            <a:avLst/>
          </a:prstGeom>
          <a:ln w="0">
            <a:noFill/>
          </a:ln>
        </p:spPr>
      </p:pic>
      <p:sp>
        <p:nvSpPr>
          <p:cNvPr id="371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4360" y="39240"/>
            <a:ext cx="903456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Picture 4" descr="bird-aviator"/>
          <p:cNvPicPr/>
          <p:nvPr/>
        </p:nvPicPr>
        <p:blipFill>
          <a:blip r:embed="rId1"/>
          <a:stretch/>
        </p:blipFill>
        <p:spPr>
          <a:xfrm>
            <a:off x="3505320" y="2971800"/>
            <a:ext cx="2879640" cy="2892600"/>
          </a:xfrm>
          <a:prstGeom prst="rect">
            <a:avLst/>
          </a:prstGeom>
          <a:ln w="0">
            <a:noFill/>
          </a:ln>
        </p:spPr>
      </p:pic>
      <p:sp>
        <p:nvSpPr>
          <p:cNvPr id="375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0320" y="39240"/>
            <a:ext cx="903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8" name="Picture 4" descr="bird-aviator"/>
          <p:cNvPicPr/>
          <p:nvPr/>
        </p:nvPicPr>
        <p:blipFill>
          <a:blip r:embed="rId1"/>
          <a:stretch/>
        </p:blipFill>
        <p:spPr>
          <a:xfrm>
            <a:off x="3276720" y="1905120"/>
            <a:ext cx="2125440" cy="18288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8"/>
          <p:cNvSpPr/>
          <p:nvPr/>
        </p:nvSpPr>
        <p:spPr>
          <a:xfrm>
            <a:off x="1363680" y="265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0" name="Group 15"/>
          <p:cNvGrpSpPr/>
          <p:nvPr/>
        </p:nvGrpSpPr>
        <p:grpSpPr>
          <a:xfrm>
            <a:off x="3811680" y="2400480"/>
            <a:ext cx="9144000" cy="360"/>
            <a:chOff x="3811680" y="2400480"/>
            <a:chExt cx="9144000" cy="360"/>
          </a:xfrm>
        </p:grpSpPr>
        <p:sp>
          <p:nvSpPr>
            <p:cNvPr id="381" name="Rectangle 14"/>
            <p:cNvSpPr/>
            <p:nvPr/>
          </p:nvSpPr>
          <p:spPr>
            <a:xfrm>
              <a:off x="3811680" y="2400480"/>
              <a:ext cx="9144000" cy="360"/>
            </a:xfrm>
            <a:prstGeom prst="rect">
              <a:avLst/>
            </a:prstGeom>
            <a:solidFill>
              <a:srgbClr val="ed8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3811680" y="2400480"/>
              <a:ext cx="9144000" cy="360"/>
            </a:xfrm>
            <a:prstGeom prst="rect">
              <a:avLst/>
            </a:prstGeom>
            <a:solidFill>
              <a:srgbClr val="ed8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83" name="Picture 12" descr=" Bears - Pictures "/>
          <p:cNvPicPr/>
          <p:nvPr/>
        </p:nvPicPr>
        <p:blipFill>
          <a:blip r:embed="rId2"/>
          <a:stretch/>
        </p:blipFill>
        <p:spPr>
          <a:xfrm>
            <a:off x="3505320" y="3657600"/>
            <a:ext cx="1520640" cy="20574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3"/>
          <p:cNvSpPr/>
          <p:nvPr/>
        </p:nvSpPr>
        <p:spPr>
          <a:xfrm>
            <a:off x="3811680" y="2400480"/>
            <a:ext cx="2514600" cy="360"/>
          </a:xfrm>
          <a:prstGeom prst="rect">
            <a:avLst/>
          </a:prstGeom>
          <a:solidFill>
            <a:srgbClr val="ed8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Нижний колонтитул 10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4360" y="39240"/>
            <a:ext cx="903456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ibernate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4" descr="bird-aviator"/>
          <p:cNvPicPr/>
          <p:nvPr/>
        </p:nvPicPr>
        <p:blipFill>
          <a:blip r:embed="rId1"/>
          <a:stretch/>
        </p:blipFill>
        <p:spPr>
          <a:xfrm>
            <a:off x="3352680" y="21337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 Bears - Pictures "/>
          <p:cNvPicPr/>
          <p:nvPr/>
        </p:nvPicPr>
        <p:blipFill>
          <a:blip r:embed="rId2"/>
          <a:stretch/>
        </p:blipFill>
        <p:spPr>
          <a:xfrm>
            <a:off x="3429000" y="3809880"/>
            <a:ext cx="1139760" cy="1600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squirrel-nuts"/>
          <p:cNvPicPr/>
          <p:nvPr/>
        </p:nvPicPr>
        <p:blipFill>
          <a:blip r:embed="rId3"/>
          <a:stretch/>
        </p:blipFill>
        <p:spPr>
          <a:xfrm>
            <a:off x="4876920" y="5105520"/>
            <a:ext cx="1530360" cy="1322280"/>
          </a:xfrm>
          <a:prstGeom prst="rect">
            <a:avLst/>
          </a:prstGeom>
          <a:ln w="0">
            <a:noFill/>
          </a:ln>
        </p:spPr>
      </p:pic>
      <p:sp>
        <p:nvSpPr>
          <p:cNvPr id="391" name="Нижний колонтитул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71200" y="-168480"/>
            <a:ext cx="816300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Migr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birds will fly to warmer places for the winter month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bird-anim"/>
          <p:cNvPicPr/>
          <p:nvPr/>
        </p:nvPicPr>
        <p:blipFill>
          <a:blip r:embed="rId1"/>
          <a:stretch/>
        </p:blipFill>
        <p:spPr>
          <a:xfrm>
            <a:off x="3733920" y="3048120"/>
            <a:ext cx="1976400" cy="2609640"/>
          </a:xfrm>
          <a:prstGeom prst="rect">
            <a:avLst/>
          </a:prstGeom>
          <a:ln w="0">
            <a:noFill/>
          </a:ln>
        </p:spPr>
      </p:pic>
      <p:sp>
        <p:nvSpPr>
          <p:cNvPr id="395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Hibern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animals will hide and sleep during the winter month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8" name="Picture 4" descr="bear-hibernate"/>
          <p:cNvPicPr/>
          <p:nvPr/>
        </p:nvPicPr>
        <p:blipFill>
          <a:blip r:embed="rId1"/>
          <a:stretch/>
        </p:blipFill>
        <p:spPr>
          <a:xfrm>
            <a:off x="3276720" y="2924280"/>
            <a:ext cx="3295440" cy="3136680"/>
          </a:xfrm>
          <a:prstGeom prst="rect">
            <a:avLst/>
          </a:prstGeom>
          <a:ln w="0">
            <a:noFill/>
          </a:ln>
        </p:spPr>
      </p:pic>
      <p:sp>
        <p:nvSpPr>
          <p:cNvPr id="399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Adapt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animals will adapt to their surroundings by growing a thicker coat or use camouflage by changing their colo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2" name="Picture 4" descr="deer1"/>
          <p:cNvPicPr/>
          <p:nvPr/>
        </p:nvPicPr>
        <p:blipFill>
          <a:blip r:embed="rId1"/>
          <a:stretch/>
        </p:blipFill>
        <p:spPr>
          <a:xfrm>
            <a:off x="3505320" y="3962520"/>
            <a:ext cx="2390760" cy="2590560"/>
          </a:xfrm>
          <a:prstGeom prst="rect">
            <a:avLst/>
          </a:prstGeom>
          <a:ln w="0">
            <a:noFill/>
          </a:ln>
        </p:spPr>
      </p:pic>
      <p:sp>
        <p:nvSpPr>
          <p:cNvPr id="403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71200" y="-76680"/>
            <a:ext cx="8163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Comic Sans MS"/>
              </a:rPr>
              <a:t>Surviving Winter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ll animals have a way to survive the winter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4" descr="snow"/>
          <p:cNvPicPr/>
          <p:nvPr/>
        </p:nvPicPr>
        <p:blipFill>
          <a:blip r:embed="rId1"/>
          <a:stretch/>
        </p:blipFill>
        <p:spPr>
          <a:xfrm>
            <a:off x="2895480" y="3124080"/>
            <a:ext cx="3353040" cy="2667240"/>
          </a:xfrm>
          <a:prstGeom prst="rect">
            <a:avLst/>
          </a:prstGeom>
          <a:ln w="0">
            <a:noFill/>
          </a:ln>
        </p:spPr>
      </p:pic>
      <p:sp>
        <p:nvSpPr>
          <p:cNvPr id="407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9:00:50Z</dcterms:created>
  <dc:creator>Jefferson County Tech Center</dc:creator>
  <dc:description/>
  <dc:language>en-US</dc:language>
  <cp:lastModifiedBy>LEGION</cp:lastModifiedBy>
  <dcterms:modified xsi:type="dcterms:W3CDTF">2018-03-22T08:19:22Z</dcterms:modified>
  <cp:revision>13</cp:revision>
  <dc:subject/>
  <dc:title>Animals in the Winter  Second Grade</dc:title>
</cp:coreProperties>
</file>